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F73B-866F-46F9-A32A-64272F0427C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E314-2DEB-4322-9E59-D0002DD4B3B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8127-DC98-4C61-9770-0B9ED138A06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C9DD-1921-483F-AE17-99AE86762C2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CA1-AC1B-4D5A-97EB-FA3B393770E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E38-069E-4AD5-A8B9-3F3AA065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8A9-FF7E-429A-8784-8DB5197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F4A-4363-4F2E-AB86-5B9B38DA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634-4F3F-4F4B-BC0C-660BF783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2B1-CEE5-4205-B015-9B614945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6D0-E175-46B4-9CD1-8FDFA0E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1E4-43CF-426C-A112-E9ED2B1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111-71CA-4CBC-9478-274B226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2F2-FA65-4C90-BF21-913EDEAB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AC8-19F3-4E5C-B445-97D7B445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114-98B2-4CFB-8FB5-8BE76EF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E9C-0F2A-462C-AD82-850A95A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E75D-2255-4D51-87C9-70E1CD39B5E6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2286000"/>
            <a:ext cx="69343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N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 rot="20275200">
            <a:off x="296640" y="3082680"/>
            <a:ext cx="855000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FAÇA A ESCOLHA CORREC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 flexões não são transmitidas à 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a compact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Reduz 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umenta a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lhora o conforto e a 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2º número identifica a série do pneu, ou s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último nº identifica o diâmetro da jante (em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 um dado importante, que está directamente lig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1- À velocidade máxima a que pod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2-À carga que pode supor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ambém é possível conhecê-la nos números identificados no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capacidade de carga é-nos dada por um número (116) que figura numa tabela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00000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UNÇÕES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uportar a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as forças de aceleração e trav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irigir o ve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suspensão e no conf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sumir a menor energia pos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CARACTERIZAÇÃO DOS VÁRIOS TIPOS DE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MEDIDAS DOS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RESISTÊNCIA DE UM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Times New Roman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VEJAMOS UM PNEU EM C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onas ou t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Tal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ojo ou flan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OS PNEUS PODEM CLASSIFICAR-SE PELA SUA ESTRU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BANDA DE ROLAMENTO ESTÁ SOLIDÁRIA COM OS FLAN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ricção com 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gaste mai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or ad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umo de combustível mais ele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8:43Z</dcterms:modified>
  <cp:revision>5</cp:revision>
  <dc:subject/>
  <dc:title>ARCO DE SEGURANÇA OU PÓRTICO</dc:title>
</cp:coreProperties>
</file>